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1E1-6B0B-4651-90FF-86DBE0F967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D62-4414-4B11-8665-0DCB66085C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8E1-C5A7-486C-8B3A-95D2B3D3E6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AD1-93D2-4EDB-8C40-12D3621E90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6A9-EED9-433B-90BD-BD31969B47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57C-5971-4D56-87B1-B1C971A5E3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5FB-9D26-4B14-9EAD-94628E4C23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403-C339-48AE-B414-3CB788A796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483-776A-4BE4-93FC-EA78FD3A66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246-C866-4E24-A943-8C15E48883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9D6-21A8-4C8B-BF8B-A56D050A36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85CE-0B14-4BAC-8CF6-4496961B89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1732-227C-4F08-815C-BADB5FFABA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4EB-CA99-482E-A60B-700DC265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526-9075-4556-B932-6E0F315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077-1666-42C1-B71F-E1A4E8DE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E54-5A79-486B-A000-2E2B0D9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C43-B9EE-4B98-A8E0-821A65B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BAA-9C01-450C-878D-83CB20C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1D7-CF6F-432C-B128-8E62E51B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129-2556-4C04-8CDB-322F054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1AD-F9BA-484A-98E2-56AA880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1BF-DA10-4447-8109-24C21C9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312-2463-495E-82A2-8694DBB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418-0EF3-4B56-8036-060B058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4D7A-47CB-44FE-A158-8650DBC1EBC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ular case of mono criterion optimization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Connecteur droit avec flèche 11"/>
          <p:cNvCxnSpPr/>
          <p:nvPr/>
        </p:nvCxnSpPr>
        <p:spPr>
          <a:xfrm flipV="1">
            <a:off x="4427280" y="1704600"/>
            <a:ext cx="1080" cy="389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Connecteur droit avec flèche 12"/>
          <p:cNvCxnSpPr/>
          <p:nvPr/>
        </p:nvCxnSpPr>
        <p:spPr>
          <a:xfrm>
            <a:off x="900000" y="415260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ZoneTexte 8"/>
          <p:cNvSpPr/>
          <p:nvPr/>
        </p:nvSpPr>
        <p:spPr>
          <a:xfrm>
            <a:off x="8030880" y="429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necteur droit 10"/>
          <p:cNvSpPr/>
          <p:nvPr/>
        </p:nvSpPr>
        <p:spPr>
          <a:xfrm>
            <a:off x="1258920" y="1920960"/>
            <a:ext cx="1512720" cy="2305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necteur droit 12"/>
          <p:cNvSpPr/>
          <p:nvPr/>
        </p:nvSpPr>
        <p:spPr>
          <a:xfrm flipH="1">
            <a:off x="6300720" y="2209680"/>
            <a:ext cx="1727280" cy="19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cteur droit 14"/>
          <p:cNvSpPr/>
          <p:nvPr/>
        </p:nvSpPr>
        <p:spPr>
          <a:xfrm>
            <a:off x="2771640" y="415296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-830160" y="1557360"/>
          <a:ext cx="57276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1557360"/>
                    <a:ext cx="5727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4464000" y="1846440"/>
          <a:ext cx="572616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1846440"/>
                    <a:ext cx="57261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Connecteur droit 15"/>
          <p:cNvSpPr/>
          <p:nvPr/>
        </p:nvSpPr>
        <p:spPr>
          <a:xfrm>
            <a:off x="2771640" y="4226040"/>
            <a:ext cx="52563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necteur droit 21"/>
          <p:cNvSpPr/>
          <p:nvPr/>
        </p:nvSpPr>
        <p:spPr>
          <a:xfrm flipH="1">
            <a:off x="4211640" y="1844640"/>
            <a:ext cx="1944720" cy="2879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23"/>
          <p:cNvSpPr/>
          <p:nvPr/>
        </p:nvSpPr>
        <p:spPr>
          <a:xfrm flipH="1">
            <a:off x="1042920" y="4724280"/>
            <a:ext cx="3168720" cy="649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25"/>
          <p:cNvSpPr/>
          <p:nvPr/>
        </p:nvSpPr>
        <p:spPr>
          <a:xfrm>
            <a:off x="2771640" y="4221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cteur droit 27"/>
          <p:cNvSpPr/>
          <p:nvPr/>
        </p:nvSpPr>
        <p:spPr>
          <a:xfrm flipH="1" flipV="1">
            <a:off x="971640" y="4581360"/>
            <a:ext cx="1800000" cy="4320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-2052720" y="4226040"/>
          <a:ext cx="595800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2052720" y="4226040"/>
                    <a:ext cx="5958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2286000" y="2276640"/>
          <a:ext cx="595800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276640"/>
                    <a:ext cx="5958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6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itialization of domina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The number of transgress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c18f4"/>
                </a:solidFill>
                <a:latin typeface="Arial"/>
              </a:rPr>
              <a:t>AFTER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4171f"/>
                </a:solidFill>
                <a:latin typeface="Arial"/>
              </a:rPr>
              <a:t>The number of dominations f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4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2808360" y="2398680"/>
                <a:ext cx="3440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2577960" y="3141720"/>
                <a:ext cx="38656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3"/>
              <p:cNvSpPr txBox="1"/>
              <p:nvPr/>
            </p:nvSpPr>
            <p:spPr>
              <a:xfrm>
                <a:off x="2263680" y="3933720"/>
                <a:ext cx="44355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4"/>
              <p:cNvSpPr txBox="1"/>
              <p:nvPr/>
            </p:nvSpPr>
            <p:spPr>
              <a:xfrm>
                <a:off x="2620800" y="5649840"/>
                <a:ext cx="3660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Object 25"/>
          <p:cNvGraphicFramePr/>
          <p:nvPr/>
        </p:nvGraphicFramePr>
        <p:xfrm>
          <a:off x="1476360" y="4797360"/>
          <a:ext cx="5896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97360"/>
                    <a:ext cx="5896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br>
              <a:rPr sz="4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252360" y="1963800"/>
            <a:ext cx="92757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en-GB" sz="3600" spc="-1" strike="noStrike">
                <a:solidFill>
                  <a:srgbClr val="f4171f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traint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Must be change in 2 constrai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6"/>
          <p:cNvGraphicFramePr/>
          <p:nvPr/>
        </p:nvGraphicFramePr>
        <p:xfrm>
          <a:off x="1332000" y="2492280"/>
          <a:ext cx="58831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5883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7"/>
          <p:cNvGraphicFramePr/>
          <p:nvPr/>
        </p:nvGraphicFramePr>
        <p:xfrm>
          <a:off x="1332000" y="3738600"/>
          <a:ext cx="587196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738600"/>
                    <a:ext cx="5871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8"/>
          <p:cNvGraphicFramePr/>
          <p:nvPr/>
        </p:nvGraphicFramePr>
        <p:xfrm>
          <a:off x="1347840" y="5186520"/>
          <a:ext cx="579924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7840" y="5186520"/>
                    <a:ext cx="57992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9"/>
          <p:cNvGraphicFramePr/>
          <p:nvPr/>
        </p:nvGraphicFramePr>
        <p:xfrm>
          <a:off x="1332000" y="5792760"/>
          <a:ext cx="579888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5792760"/>
                    <a:ext cx="5798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main of constraints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5"/>
          <p:cNvCxnSpPr/>
          <p:nvPr/>
        </p:nvCxnSpPr>
        <p:spPr>
          <a:xfrm flipV="1">
            <a:off x="4427280" y="1915560"/>
            <a:ext cx="1080" cy="388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necteur droit avec flèche 7"/>
          <p:cNvCxnSpPr/>
          <p:nvPr/>
        </p:nvCxnSpPr>
        <p:spPr>
          <a:xfrm>
            <a:off x="900000" y="436536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ZoneTexte 8"/>
          <p:cNvSpPr/>
          <p:nvPr/>
        </p:nvSpPr>
        <p:spPr>
          <a:xfrm>
            <a:off x="803088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10"/>
          <p:cNvSpPr/>
          <p:nvPr/>
        </p:nvSpPr>
        <p:spPr>
          <a:xfrm>
            <a:off x="1258920" y="2133720"/>
            <a:ext cx="2665440" cy="40320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cteur droit 12"/>
          <p:cNvSpPr/>
          <p:nvPr/>
        </p:nvSpPr>
        <p:spPr>
          <a:xfrm flipH="1">
            <a:off x="4859280" y="2421000"/>
            <a:ext cx="3168720" cy="37447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cteur droit 14"/>
          <p:cNvSpPr/>
          <p:nvPr/>
        </p:nvSpPr>
        <p:spPr>
          <a:xfrm>
            <a:off x="2771640" y="436572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-830160" y="1768320"/>
          <a:ext cx="565452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1768320"/>
                    <a:ext cx="565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4464000" y="2057400"/>
          <a:ext cx="572616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2057400"/>
                    <a:ext cx="572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main of constraints acceptance</a:t>
            </a:r>
            <a:br>
              <a:rPr sz="3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y multicriteria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5"/>
          <p:cNvCxnSpPr/>
          <p:nvPr/>
        </p:nvCxnSpPr>
        <p:spPr>
          <a:xfrm flipV="1">
            <a:off x="4427280" y="2275920"/>
            <a:ext cx="1080" cy="388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7"/>
          <p:cNvCxnSpPr/>
          <p:nvPr/>
        </p:nvCxnSpPr>
        <p:spPr>
          <a:xfrm>
            <a:off x="900000" y="4723920"/>
            <a:ext cx="7344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ZoneTexte 8"/>
          <p:cNvSpPr/>
          <p:nvPr/>
        </p:nvSpPr>
        <p:spPr>
          <a:xfrm>
            <a:off x="803088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cteur droit 10"/>
          <p:cNvSpPr/>
          <p:nvPr/>
        </p:nvSpPr>
        <p:spPr>
          <a:xfrm>
            <a:off x="1258920" y="2492280"/>
            <a:ext cx="1512720" cy="2305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12"/>
          <p:cNvSpPr/>
          <p:nvPr/>
        </p:nvSpPr>
        <p:spPr>
          <a:xfrm flipH="1">
            <a:off x="6300720" y="2781360"/>
            <a:ext cx="1727280" cy="19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cteur droit 14"/>
          <p:cNvSpPr/>
          <p:nvPr/>
        </p:nvSpPr>
        <p:spPr>
          <a:xfrm>
            <a:off x="2771640" y="472428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-830160" y="2128680"/>
          <a:ext cx="57276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0160" y="2128680"/>
                    <a:ext cx="5727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"/>
          <p:cNvGraphicFramePr/>
          <p:nvPr/>
        </p:nvGraphicFramePr>
        <p:xfrm>
          <a:off x="4464000" y="2417760"/>
          <a:ext cx="572616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2417760"/>
                    <a:ext cx="572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Connecteur droit 15"/>
          <p:cNvSpPr/>
          <p:nvPr/>
        </p:nvSpPr>
        <p:spPr>
          <a:xfrm>
            <a:off x="2771640" y="4797360"/>
            <a:ext cx="525636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formation of the constraint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ust be change in functions to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332000" y="2492280"/>
          <a:ext cx="58831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5883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1403280" y="4149720"/>
          <a:ext cx="5958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149720"/>
                    <a:ext cx="5958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ization of 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ime that x is dominated by an oth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in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Calculation of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x and y are in the domain of constraints accep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by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x and y are in the unauthorised domai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by the constraints’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ization of 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ime that x is dominated by an oth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in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Calculation of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If y is in the domain of constraints acceptance and not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4171f"/>
                </a:solidFill>
                <a:latin typeface="Arial"/>
              </a:rPr>
              <a:t>domination of x by the functions (only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ular case of mono criterion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If y is in the domain of constraints acceptance and not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c18f4"/>
                </a:solidFill>
                <a:latin typeface="Arial"/>
              </a:rPr>
              <a:t>domination of x by the functions (only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odification of the function (for minimization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m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s the minimum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accepta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1582560" y="4667400"/>
          <a:ext cx="589608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4667400"/>
                    <a:ext cx="5896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7:46:25Z</dcterms:modified>
  <cp:revision>140</cp:revision>
  <dc:subject/>
  <dc:title>Process modelling and optimisation aid</dc:title>
</cp:coreProperties>
</file>